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52480"/>
            <a:ext cx="9067680" cy="0"/>
          </a:xfrm>
          <a:prstGeom prst="line">
            <a:avLst/>
          </a:prstGeom>
          <a:ln w="15228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owell Copiers EPSS Demo: “Configuration Problem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2343240"/>
            <a:ext cx="28861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50840" y="4084560"/>
            <a:ext cx="4873680" cy="22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 Malcolm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7 Caffyn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lborough, CT 06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60-295-97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nMalcolm@compuserv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479840" y="2414520"/>
            <a:ext cx="44355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rategies for Learning Technologies and Electronic Performance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rporate Learning Consor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200" y="76320"/>
            <a:ext cx="888516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0080" y="76320"/>
            <a:ext cx="8891640" cy="66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5920"/>
            <a:ext cx="883908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15920"/>
            <a:ext cx="883908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83908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Howell Copiers EPSS Prototy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pyright Macromedia, Inc. 1989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rights reserved.  Used with permi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n Malcolm</dc:creator>
  <dc:description/>
  <dc:language>en-US</dc:language>
  <cp:lastModifiedBy>Stan Malcolm</cp:lastModifiedBy>
  <cp:revision>0</cp:revision>
  <dc:subject/>
  <dc:title>Howell Copiers EPSS</dc:title>
</cp:coreProperties>
</file>